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925-232A-41E3-AB66-3160F9BB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4CC-E55A-482B-9AA2-E1221A71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914-51BC-4338-A4DC-CE161C11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438-D814-48D1-856E-E2A770CA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A65-B7C9-406D-B80C-AAFE732B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0BF-5BF6-46DE-951A-3655A71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702-B652-48E1-8E17-4845463B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FDB-F2C2-41D5-B4C4-19979927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D3A-A537-4885-BB72-CA064A43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719-9CF2-4907-893E-3377B76F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916-0F97-43D4-B0B0-388AC105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4A2-32E6-47C0-BCC6-00746D59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BBD6-545D-4C43-BC7C-4F7E7DD1B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85800" y="-85716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2819520"/>
            <a:ext cx="6094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1880" y="2971800"/>
            <a:ext cx="45720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0" y="3768840"/>
            <a:ext cx="1995480" cy="2784240"/>
          </a:xfrm>
          <a:custGeom>
            <a:avLst/>
            <a:gdLst/>
            <a:ahLst/>
            <a:rect l="l" t="t" r="r" b="b"/>
            <a:pathLst>
              <a:path w="1257" h="1754">
                <a:moveTo>
                  <a:pt x="0" y="0"/>
                </a:moveTo>
                <a:lnTo>
                  <a:pt x="1257" y="1754"/>
                </a:lnTo>
              </a:path>
            </a:pathLst>
          </a:custGeom>
          <a:noFill/>
          <a:ln w="76320">
            <a:solidFill>
              <a:srgbClr val="66ff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3276600">
            <a:off x="3405240" y="4989240"/>
            <a:ext cx="67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38480" y="1433520"/>
            <a:ext cx="2415960" cy="2819520"/>
          </a:xfrm>
          <a:custGeom>
            <a:avLst/>
            <a:gdLst/>
            <a:ahLst/>
            <a:rect l="l" t="t" r="r" b="b"/>
            <a:pathLst>
              <a:path w="1522" h="1776">
                <a:moveTo>
                  <a:pt x="626" y="1381"/>
                </a:moveTo>
                <a:lnTo>
                  <a:pt x="834" y="1695"/>
                </a:lnTo>
                <a:lnTo>
                  <a:pt x="873" y="1758"/>
                </a:lnTo>
                <a:lnTo>
                  <a:pt x="939" y="1776"/>
                </a:lnTo>
                <a:lnTo>
                  <a:pt x="996" y="1743"/>
                </a:lnTo>
                <a:lnTo>
                  <a:pt x="1470" y="1461"/>
                </a:lnTo>
                <a:lnTo>
                  <a:pt x="1522" y="1421"/>
                </a:lnTo>
                <a:lnTo>
                  <a:pt x="1521" y="1377"/>
                </a:lnTo>
                <a:lnTo>
                  <a:pt x="1498" y="1337"/>
                </a:lnTo>
                <a:lnTo>
                  <a:pt x="621" y="33"/>
                </a:lnTo>
                <a:lnTo>
                  <a:pt x="546" y="0"/>
                </a:lnTo>
                <a:lnTo>
                  <a:pt x="492" y="36"/>
                </a:lnTo>
                <a:lnTo>
                  <a:pt x="30" y="324"/>
                </a:lnTo>
                <a:lnTo>
                  <a:pt x="0" y="372"/>
                </a:lnTo>
                <a:lnTo>
                  <a:pt x="18" y="438"/>
                </a:lnTo>
                <a:lnTo>
                  <a:pt x="75" y="528"/>
                </a:lnTo>
                <a:lnTo>
                  <a:pt x="318" y="873"/>
                </a:ln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61476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7"/>
                </a:moveTo>
                <a:lnTo>
                  <a:pt x="24" y="15"/>
                </a:lnTo>
                <a:lnTo>
                  <a:pt x="54" y="0"/>
                </a:lnTo>
              </a:path>
            </a:pathLst>
          </a:custGeom>
          <a:noFill/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96252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WY 31 Displaced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66880" y="3657600"/>
            <a:ext cx="60984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3:13:57Z</dcterms:created>
  <dc:creator>karl.scribner</dc:creator>
  <dc:description/>
  <dc:language>en-US</dc:language>
  <cp:lastModifiedBy>Beed</cp:lastModifiedBy>
  <dcterms:modified xsi:type="dcterms:W3CDTF">2006-03-06T18:39:35Z</dcterms:modified>
  <cp:revision>3</cp:revision>
  <dc:subject/>
  <dc:title>No Slide Title</dc:title>
</cp:coreProperties>
</file>